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19.jpeg" ContentType="image/jpeg"/>
  <Override PartName="/ppt/media/image18.gif" ContentType="image/gif"/>
  <Override PartName="/ppt/media/image17.wmf" ContentType="image/x-wmf"/>
  <Override PartName="/ppt/media/image16.wmf" ContentType="image/x-wmf"/>
  <Override PartName="/ppt/media/image2.jpeg" ContentType="image/jpeg"/>
  <Override PartName="/ppt/media/image1.jpeg" ContentType="image/jpeg"/>
  <Override PartName="/ppt/media/image15.wmf" ContentType="image/x-wmf"/>
  <Override PartName="/ppt/media/image4.gif" ContentType="image/gif"/>
  <Override PartName="/ppt/media/image9.wmf" ContentType="image/x-wmf"/>
  <Override PartName="/ppt/media/image11.gif" ContentType="image/gif"/>
  <Override PartName="/ppt/media/image14.wmf" ContentType="image/x-wmf"/>
  <Override PartName="/ppt/media/image3.gif" ContentType="image/gi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C39-E486-4CFA-AC39-DE1BE776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8FC-299C-4596-93D6-A476616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EA4-94CD-44DF-9F35-ED757E0E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61B-7729-4F08-8C72-87CCEE49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27F9-9572-4043-A48B-E00FBD13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1FBE-86D5-4E54-8903-8B2CE51E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214-E046-4AE5-AA18-437ABE4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B467-EB58-4E0D-8D7A-F6CD736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2166-2AB9-4919-BC91-880B77F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F765-255E-4887-8251-A9F505B3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9138-E710-4B2F-B913-0D79B412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91E-4298-497C-8D80-04B56C49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0AA-588C-4A35-9F03-E56ED53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EC8B-8DDA-4C83-8D2D-FF18CCC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12D2-17F9-499E-81E5-35F99547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D97C-6393-4609-999E-83DED6C0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E2B-AE47-4C7A-A963-80E325AD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16E-9577-48BA-90F7-6D554C0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E18-55D5-40B0-899E-F5D7570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25F-220D-47BA-A3DC-FA421567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14E-1E73-4972-9330-ADB197DE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9FB-580A-4CBA-BC6B-932E29B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551-536C-4A0D-B636-91D72AE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B1A-5668-4711-BA3F-25F86AD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1AC-083D-42EE-AA9A-7AEB6D195D6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D8B-63BF-475F-87DF-7026939F8559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3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3.gi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.5.3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近似数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5120" y="1828800"/>
            <a:ext cx="70102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0.45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精确到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0.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.41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精确到百分位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80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精确到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0.0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90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精确到个位）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20516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.452 ≈0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0.415≈20.4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.805 ≈4.8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.904≈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85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按括号内的要求，用四舍五入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下列各数取近似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986120"/>
            <a:ext cx="777240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量得课桌长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请按下列要求取这个数的近似数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四舍五入到百分位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四舍五入到十分位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四舍五入到个位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50532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0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37364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6280" y="505944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12760" y="595440"/>
            <a:ext cx="2620800" cy="852480"/>
            <a:chOff x="1112760" y="595440"/>
            <a:chExt cx="2620800" cy="852480"/>
          </a:xfrm>
        </p:grpSpPr>
        <p:sp>
          <p:nvSpPr>
            <p:cNvPr id="138" name=""/>
            <p:cNvSpPr/>
            <p:nvPr/>
          </p:nvSpPr>
          <p:spPr>
            <a:xfrm>
              <a:off x="1581120" y="654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112760" y="595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8040" y="1905120"/>
            <a:ext cx="7927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828800"/>
            <a:ext cx="79246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和小强在做同一道题把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321499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千分位”小明的做法是只考虑万分位的数不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舍去，所以结果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3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小强的做法是先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321499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32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再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3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你认为谁的解法正确，说说你的理由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95480" y="609480"/>
            <a:ext cx="3519360" cy="1185840"/>
            <a:chOff x="2895480" y="609480"/>
            <a:chExt cx="3519360" cy="11858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462640" y="6094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Cloud"/>
            <p:cNvSpPr/>
            <p:nvPr/>
          </p:nvSpPr>
          <p:spPr>
            <a:xfrm>
              <a:off x="2895480" y="60948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416040" y="76176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strips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2438640"/>
            <a:ext cx="74674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近似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.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.2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样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表示近似数时，能简单地把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.2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后面的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去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33720" y="871560"/>
            <a:ext cx="3519360" cy="1185840"/>
            <a:chOff x="3033720" y="871560"/>
            <a:chExt cx="3519360" cy="11858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600880" y="87156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Cloud"/>
            <p:cNvSpPr/>
            <p:nvPr/>
          </p:nvSpPr>
          <p:spPr>
            <a:xfrm>
              <a:off x="3033720" y="87156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554280" y="102384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1219320"/>
            <a:ext cx="79246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下列由四舍五入得到的近似数，各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确到哪一位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  ；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0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；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3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80988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：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精确到万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.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精确到百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准确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实际完全符合的数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514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近似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实际接近的数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276720"/>
            <a:ext cx="79246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精确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一个近似数与准确数接近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   的程度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7760" y="0"/>
            <a:ext cx="2849400" cy="1709640"/>
            <a:chOff x="3047760" y="0"/>
            <a:chExt cx="2849400" cy="1709640"/>
          </a:xfrm>
        </p:grpSpPr>
        <p:sp>
          <p:nvSpPr>
            <p:cNvPr id="157" name="filecab3"/>
            <p:cNvSpPr/>
            <p:nvPr/>
          </p:nvSpPr>
          <p:spPr>
            <a:xfrm rot="10800000">
              <a:off x="30477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6655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905120"/>
            <a:ext cx="830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据中国统计信息网公布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中国第五次人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查资料表明，我国的人口总数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295 330 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请按要求分别取这个数的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精确到百万位；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精确到千万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精确到亿位；   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精确到十亿位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43000" y="4952880"/>
            <a:ext cx="5500800" cy="11462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047760" y="0"/>
            <a:ext cx="2849400" cy="1709640"/>
            <a:chOff x="3047760" y="0"/>
            <a:chExt cx="2849400" cy="1709640"/>
          </a:xfrm>
        </p:grpSpPr>
        <p:sp>
          <p:nvSpPr>
            <p:cNvPr id="162" name="filecab3"/>
            <p:cNvSpPr/>
            <p:nvPr/>
          </p:nvSpPr>
          <p:spPr>
            <a:xfrm rot="10800000">
              <a:off x="30477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6655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330200" cy="1371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269720"/>
            <a:ext cx="845820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下列结论正确的是（         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近似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23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2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有效数字是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　  样的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近似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9.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精确到个位，它的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 效数字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近似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.0051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.051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精确度不一样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近似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万与近似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0 0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精确度相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同　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4320" y="1295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79200" cy="979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1143000"/>
            <a:ext cx="79246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出下列各问题中的准确数和近似数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及近似数各精确到哪一位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某厂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年的产值约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50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万元，约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998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年的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某校初二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班有学生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人，平均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高约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57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米，平均体重约为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0.3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千克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世界人口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亿人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52480" y="5734080"/>
            <a:ext cx="5029200" cy="51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1523880"/>
            <a:ext cx="8458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：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9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准确数．近似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5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元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精确到万位；近似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2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精确到个位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　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准确数．近似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.5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精确到百分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近似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0.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精确到十分位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　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近似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6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亿精确到亿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971800" y="685800"/>
            <a:ext cx="2971800" cy="62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2880" y="3124080"/>
            <a:ext cx="3886200" cy="1219320"/>
          </a:xfrm>
          <a:prstGeom prst="wedgeRoundRectCallout">
            <a:avLst>
              <a:gd name="adj1" fmla="val -49634"/>
              <a:gd name="adj2" fmla="val 105208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419360" cy="42544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86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38941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4952880" y="32004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第五次人口普查时，　中国人口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约为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12.95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亿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686520"/>
            <a:ext cx="769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00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，我国神舟五号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  人飞船准确进入预定轨道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9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返回舱与推进舱分离，返回地面．其间飞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绕地球共飞行了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圈，飞行的路程约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千米，则神舟五号载人飞船绕地球平均每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飞行多少千米（用科学记数法表示，结果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确到百位）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781440"/>
            <a:ext cx="80010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万千米＝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00 000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所以：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00 000÷14≈4.29×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（千米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答：神舟五号飞船绕地球平均每圈飞行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4.29×10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990720" y="1863720"/>
            <a:ext cx="8229600" cy="4529160"/>
            <a:chOff x="990720" y="1863720"/>
            <a:chExt cx="8229600" cy="4529160"/>
          </a:xfrm>
        </p:grpSpPr>
        <p:sp>
          <p:nvSpPr>
            <p:cNvPr id="175" name=""/>
            <p:cNvSpPr/>
            <p:nvPr/>
          </p:nvSpPr>
          <p:spPr>
            <a:xfrm>
              <a:off x="990720" y="1863720"/>
              <a:ext cx="82296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.89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     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　  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6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29 981 69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12 550 88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60.944 128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95 443.993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         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     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968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5.93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.35×10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;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.885 2×10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7.01×10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1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.8×10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7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7848720" y="1940040"/>
              <a:ext cx="4698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3810240" y="4149720"/>
              <a:ext cx="8222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5867640" y="4149720"/>
              <a:ext cx="5587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3047760" y="0"/>
            <a:ext cx="2849400" cy="1709640"/>
            <a:chOff x="3047760" y="0"/>
            <a:chExt cx="2849400" cy="1709640"/>
          </a:xfrm>
        </p:grpSpPr>
        <p:sp>
          <p:nvSpPr>
            <p:cNvPr id="180" name="filecab3"/>
            <p:cNvSpPr/>
            <p:nvPr/>
          </p:nvSpPr>
          <p:spPr>
            <a:xfrm rot="10800000">
              <a:off x="30477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36655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848720" y="304920"/>
            <a:ext cx="1011240" cy="106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990720" y="593640"/>
            <a:ext cx="8076960" cy="5724360"/>
            <a:chOff x="990720" y="593640"/>
            <a:chExt cx="8076960" cy="5724360"/>
          </a:xfrm>
        </p:grpSpPr>
        <p:sp>
          <p:nvSpPr>
            <p:cNvPr id="184" name=""/>
            <p:cNvSpPr/>
            <p:nvPr/>
          </p:nvSpPr>
          <p:spPr>
            <a:xfrm>
              <a:off x="990720" y="593640"/>
              <a:ext cx="8076960" cy="57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0 000 00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 30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8 050 00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00 40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　　　    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9 600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.003 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56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.9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.057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平方等于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的整数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或－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立方等于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的数是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,S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a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ab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时，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8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地球绕太阳公转速度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.1×10</a:t>
              </a:r>
              <a:r>
                <a:rPr b="1" lang="en-US" sz="2800" spc="-1" strike="noStrike" baseline="30000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千米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时＝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              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米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秒≈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0 55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米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秒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所以地球绕太阳公转的速度大于声音在空气中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的传播速度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.153 6×107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秒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599840" y="4098960"/>
              <a:ext cx="2031840" cy="88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410080" y="5410080"/>
            <a:ext cx="1676520" cy="73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38088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．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　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00.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底数的小数点向左（右）移动一位时，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方数小数点向左（右）移动两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00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 0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 000 000.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底数的小数点向左（右）移动一位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平方数小数点向左（右）移动三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000 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 0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0 000 000.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底数的小数点向左（右）移动一位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平方数小数点向左（右）移动四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．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成立；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成立；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不成立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不成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6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6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72428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92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990720" y="22860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知识与能力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解近似数和有效数字的概念；能按要求取近似数和保留有效数字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20968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过程与方法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说出一个近似数的精确度和有效数字，培养把握关键字词，准确理解概念的能力；体会近似数和有效数字是在实践中产生的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情感态度与价值观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近似数的学习，渗透具体问题具体分析的辩证唯物主义思想 　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97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133720"/>
            <a:ext cx="640080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重点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按要求取近似数和有效数字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难点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效数字概念的理解．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666520" y="0"/>
            <a:ext cx="3551400" cy="1692000"/>
            <a:chOff x="2666520" y="0"/>
            <a:chExt cx="3551400" cy="1692000"/>
          </a:xfrm>
        </p:grpSpPr>
        <p:sp>
          <p:nvSpPr>
            <p:cNvPr id="101" name="filecab3"/>
            <p:cNvSpPr/>
            <p:nvPr/>
          </p:nvSpPr>
          <p:spPr>
            <a:xfrm rot="10800000">
              <a:off x="2666520" y="853200"/>
              <a:ext cx="355140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65580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76212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语句中，那些数据是精确的，哪些数据是近似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我和妈妈去买水果，买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苹果，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  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千克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小民与小李买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瓶水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根黄瓜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  香巴拉牛肉干，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元，然后骑车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大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5km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外去郊游，大约玩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　   时回家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我国共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民族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676520"/>
            <a:ext cx="304560" cy="761760"/>
          </a:xfrm>
          <a:prstGeom prst="ellipse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2590920"/>
            <a:ext cx="304560" cy="761760"/>
          </a:xfrm>
          <a:prstGeom prst="ellipse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495680"/>
            <a:ext cx="380880" cy="762120"/>
          </a:xfrm>
          <a:prstGeom prst="ellipse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666880"/>
            <a:ext cx="304920" cy="762120"/>
          </a:xfrm>
          <a:prstGeom prst="ellipse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2590920"/>
            <a:ext cx="304560" cy="761760"/>
          </a:xfrm>
          <a:prstGeom prst="ellipse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362320"/>
            <a:ext cx="380880" cy="38088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3809880"/>
            <a:ext cx="533520" cy="38124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809880"/>
            <a:ext cx="533160" cy="38124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276720"/>
            <a:ext cx="533520" cy="380880"/>
          </a:xfrm>
          <a:prstGeom prst="rect">
            <a:avLst/>
          </a:prstGeom>
          <a:noFill/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2578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精确数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；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似数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91440" y="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561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再举出一些日常生活中常碰到的近似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15080" y="2057400"/>
            <a:ext cx="46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国的陆地面积约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万平方千米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8670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第五次全国人口普查我国人口总数约为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.9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亿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5240" y="407664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明家的房屋面积约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87692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圆周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约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14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43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准确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8920" y="214956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实际完全符合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73392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实际接近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5257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精确度表示一个近似数与准确数接近的程度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49568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精确度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9364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理解下面几个概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59000" y="2895480"/>
            <a:ext cx="18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近似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2665440"/>
            <a:ext cx="9220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π≈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精确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π≈3.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精确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或叫做精确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十分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π≈3.1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精确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或叫精确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百分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π≈3.14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精确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00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或叫做精确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千分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π≈3.141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精确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000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或叫做精确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万分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2209680" cy="3095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14479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四舍五入法对圆周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近似数，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8:26:34Z</dcterms:created>
  <dc:creator/>
  <dc:description/>
  <cp:keywords/>
  <dc:language>en-US</dc:language>
  <cp:lastModifiedBy>微软用户</cp:lastModifiedBy>
  <dcterms:modified xsi:type="dcterms:W3CDTF">2014-06-30T01:05:02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96110000000000010250600207f7000400038000</vt:lpwstr>
  </property>
  <property fmtid="{D5CDD505-2E9C-101B-9397-08002B2CF9AE}" pid="4" name="Version">
    <vt:r8>1</vt:r8>
  </property>
</Properties>
</file>